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503-9337-4E2F-B86F-C642F6F5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761-2582-46FF-8C2F-D02ADD54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11A-459C-46D5-B43B-3B908D9C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B7C-9DF3-4163-927D-7240FFB4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DCD-AEE8-45C8-9526-148D92AE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956-7218-44C0-833A-3F2CC9A7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E42-C3A1-4D15-994C-4978D03C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7C8-6784-4E95-B6D4-AF5113E1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B6E-2053-47B8-8C2E-A5DED784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1FE-6F92-4CCF-B522-AEE5337A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6AD-1623-4979-B716-30E548F2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07D-06F1-4931-930E-5796C397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83B0-1371-4662-9CB5-91BD36E63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hosted/life/f?q=1950+whistle+stop&amp;prev=/images%3Fq%3D1950%2Bwhistle%2Bstop%26start%3D60%26um%3D1%26hl%3Den%26safe%3Dactive%26sa%3DN%26rls%3Dcom.microsoft:en-us:IE-SearchBox%26rlz%3D1I7ADBS_en%26ndsp%3D20%26tbs%3Disch:1&amp;imgurl=44bb75e50868b198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Ray, Brennan and Jess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Right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an was a longtime supporter of equal rights for African Americ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rights issues shattered the democrats national co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rvative southern democrats the so called “Dixiecrats” broke from the party to form a state right demarcate part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nning on the ra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claimed that the republicans were not serious about solving the nations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gress rejected: aid to farmers, a minimum wages hike from 40-75 cents. A house bill increased social security converge and new price contr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labor day to election day Truman took his famous train trip or known as whistle-stop tour in cars that belonged to FD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won the e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85800"/>
            <a:ext cx="83055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air D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ir deal registered is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cial security system was used to cover 10 million mor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um wage rose from 40-50 cents per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sing act of 1949 authorized the construction of about 800,000 law-in-come un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ld War at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ar of communism at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end of WW2 their was a huge power grab politically in the world between capitalism and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at fear growing citizens and politicians worried of communism growing in the United Sta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unt for communis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Soviet Union developing an atomic bomb and the spread of communism around the world, some politicians used fear as a way to defeat enemies and grab political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created the House Un-American Activities Committee or the HU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re first issues that they looked for is communist influence on FDR’s New D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7 the HUAC led by then congressman Richard Nixon started hearings against suspected communist most notably Alger His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taker Chambers (senior editor at Time Magazine and communist sympathizer) was closely involved with Alger Hi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mbers now a staunch anti-communist testified against Hi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s was a Harvard law graduate, was a clerk for a Supreme court justice and served as a “New Dealer” under FD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le  of Chamb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fter Chambers testimony and FBI investigations a New York grand jury failed to bring indictment against Hi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te 1948 the case took a bizarre turn, investigators visited Chambers farm to find micro film showing secret state dept. documents that were traced to Hi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s was convicted in 1950 of two counts of perjury and sentenced to five years in pr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treat From the New D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man joins Red Hu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47 Truman instituted the Federal Employee Loyalty progr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program any connection to a communist party member was enough to put a government worker out of a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1947-1951 the “Loyalty board” investigated 3 million government employees, 3000 were forced to resigned and 212 were f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obes uncovered subversion or espion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cCarran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Carran Act made it illegal for Americans to engage in activates that would  create a communist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vetoed the McCarran Act declaring “ in a free country, we punish men for crimes they commit, but never for the opinions the hold.” Congress easily overrode the ve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stice serv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early 1950’s Ethel and Julius Rosenberg were charged of conspiracy to sell specs for manufacturing an atomic bomb to the Sovi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June 19, 1953 the Rosenberg’s were put to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ly released Soviet documents seem to confirm the Rosenberg’s gui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cCarthy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1950 Senator Joseph McCarthy took up the anti-Communist c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wer hungry McCarthy accused many of communist ties but never produced a shred of credible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n his own party thought he was a loose cannon and often distanced themselves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cCarthy takes on U.S. Arm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4 McCarthy accuses U.S. Army of communist conspira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y attorney Joseph Welch shredded McCarthy’s charges of conspi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54 the Senate voted to condemn McCarthy, he later died in 195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isenhower Yea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isenhower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senhower made people think that things might come out al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on the confidence of the American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he spoke he sounded like the family doctor because his voice was very so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ner In 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senhower had good political instincts, because he choose senator Nixon as his running 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or Nixon had tons of experience and was a champ of anti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ke’s election campaign was organized, efficient, and determ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mised to “clean up the mess in Washingt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mised to go to Korea him self and end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econd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1956 election was basically a rerun of the 1952 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again Eisenhower squared off with Adlai Stevenson and w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servation Tur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candidate for congress in 19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said “ one was and advocated by new deal is government control regulating our lives. The second one is called for individual freedom and all that initiative can produ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uble threatened when Castro came to power in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57 the Soviets sent up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utn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, the first satell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months after that the U.S. sent up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lor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 Counties answer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utn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 that year, Congress created The National Aeronautics and Space Administration AKA N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28840" y="895320"/>
            <a:ext cx="6286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ving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ke wasn’t concerned with blazing a path into space, but he wanted to start paving new roads across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Eisenhower term was the biggest and expensive public works program in American history: Construction of the federal interstate highway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4914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s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appropriated $32 billion to build 41,000 miles of high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 years later, cars and trucks crisscrossed the nation along the world’s finest highway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cost was more than $80 B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ke’s Leg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ke described himself as “conservative when it comes to money and liberal when it comes to human being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his terms, congress extended Social Security to cover another 7 million people and unemployment compensation to cover another 4 million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nimum wage increased from 75 cents to $1, and federally financed housing for lower-income families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60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nnedy versus Nixon meant Catholic versus Prote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Kennedy the spender against Nixon the fiscal conserv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men had similar opinions on foreign and domestic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xon had to disagree publicly with Kennedy because he had to support his administration’s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60 Kennedy was not a vigorous advocate of civil rights and Nixon had long been a moderate on the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291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mpa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had been left behind again when the Soviets sent a dog into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Communist movements in Asia had not ended with the Korean War, but were only shifting to southeast Asia in a little country called Vietn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first time, the electronic media- TV and radio- were becoming a big factor in a presidential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liked all the attention and being on TV because of his good looks and h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rs about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goods shot up by 25% in the mid 19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more strikes, measured in the lost work hours than any other time in American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an raised prices on the people to get more money for wa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495680" cy="4141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72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election was one of the closest in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took 49.7 percent of the popular vote to 49.5 percent for Nix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oral vote were Kennedy 303 to Nixon 2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1148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During the Nixon- Kennedy presidential campaign, TV and radio, also known as the _________, became an important 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Dwight Eisenhower practiced a management style based on group agreements called 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Which of the following was not an accomplishment of the Eisenhower administ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nstruction of the interstate 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Creation of 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Expansion of social security benefits and unemployment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Passage of the Traft- Hartley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) What was the cost for paving 41,000 miles of highways in the U.S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$20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$30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$32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$35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What did they find on Chambers Fa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cro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Pas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A top secret formula for a nuclear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Was Eisenhower an aggressive talker or a very sweet and soothing talk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) After WW2 what were people so afraid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) Truman took his famous train Tour know a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U CHOO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Whistle Stop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Around the country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Railroad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) What was the McCarren 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) True or False, did Harry Truman ever want to be pres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) When did McCarthy D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19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19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19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) In 1949, minimum wages raised from 40 cent to 75 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) What was the HUA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ouse of un-American activitie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How un-American Are C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How to Use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House of Utter acting C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) Truman went to war with congress over what bi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aft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Taft Hartley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Good Neighbor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Peace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) Did Eisenhower turn down an offer for $40,000 from McCall’s magazine just to say whether or not he was a republican or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91080" cy="533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33920" y="3125880"/>
            <a:ext cx="54100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lash against the New D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Taft made a bill that ban a work place only union members could be h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ll also allowed stated to pass right to work  laws wish outlawed union sh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ll helped  balance power so people had more say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an went to war with congress over the Taft Hartley bill which was called slave labor b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 was passed with no help from Trum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man fights the Taft Hartley Bi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up hill race in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y Truman never wanted to be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hed someone else would take the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unting prospect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thought Truman was soft on labor and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ody like Truman because prices were so much higher on stu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essives party appeared to be a serious political contender that could spoil Truman's chances for re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6:18:25Z</dcterms:created>
  <dc:creator>ASD</dc:creator>
  <dc:description/>
  <dc:language>en-US</dc:language>
  <cp:lastModifiedBy>ASD</cp:lastModifiedBy>
  <dcterms:modified xsi:type="dcterms:W3CDTF">2010-07-08T20:38:14Z</dcterms:modified>
  <cp:revision>7</cp:revision>
  <dc:subject/>
  <dc:title>Cold War Politics</dc:title>
</cp:coreProperties>
</file>